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91047"/>
        <c:axId val="98827296"/>
      </c:barChart>
      <c:catAx>
        <c:axId val="57191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7296"/>
        <c:crosses val="autoZero"/>
        <c:auto val="1"/>
        <c:lblAlgn val="ctr"/>
        <c:lblOffset val="100"/>
        <c:noMultiLvlLbl val="0"/>
      </c:catAx>
      <c:valAx>
        <c:axId val="98827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1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8BD-8729-40CB-ACA7-61358174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393-A754-45CC-8DA8-EB1FC3D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454-89E3-4076-B9BE-D1C18081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626-44D6-4821-BE36-C04ABBF2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487-4A72-436B-97A2-F626F01F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A05-E1EC-4521-AEA5-17FAD50D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94C-F92D-4325-9B03-181F5E7C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7EA-36C3-4E0B-A367-18E5DD2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04B-FE07-4B07-9EA4-F6BB089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3A1-A651-471E-8CD0-6EE8C82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C13-229B-451D-8466-756DBB9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4AE-C0FC-41A4-9DE5-D15993D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FD7FB-A032-49D6-8140-B6A79F3C80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