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75081"/>
        <c:axId val="89555165"/>
      </c:barChart>
      <c:catAx>
        <c:axId val="48375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55165"/>
        <c:crosses val="autoZero"/>
        <c:auto val="1"/>
        <c:lblAlgn val="ctr"/>
        <c:lblOffset val="100"/>
        <c:noMultiLvlLbl val="0"/>
      </c:catAx>
      <c:valAx>
        <c:axId val="89555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75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FCA-DC49-49DB-90BA-BB37F5C7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3BC-0F2A-4694-BC00-D148A42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845-A431-462F-8C11-C26349EB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9C3-5FFE-45DE-AD67-776D22C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DBA-E2FB-4697-8053-ECD2B6FD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3C6-E48F-4BF4-BD71-2B8E409A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084-B6EB-4595-B77C-24E27FD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C67-396B-4BC7-8F45-2A0F01C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AC7-540F-480F-B037-3059FDB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7B9-21FE-4A7E-98D2-76E938F9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87F-BF9B-4A8C-99B7-A57E752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436-F2A6-48A6-8008-8C319CF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27FF8-6968-40E0-BF97-28F44E441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