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1386113"/>
        <c:axId val="79453118"/>
      </c:barChart>
      <c:catAx>
        <c:axId val="2138611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453118"/>
        <c:crosses val="autoZero"/>
        <c:auto val="1"/>
        <c:lblAlgn val="ctr"/>
        <c:lblOffset val="100"/>
        <c:noMultiLvlLbl val="0"/>
      </c:catAx>
      <c:valAx>
        <c:axId val="7945311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38611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9548-338C-40DC-8313-37E4A9CA3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A2CC-733C-4DBD-B80A-10257AD3D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AC00-92B5-4DB5-9FFC-DFA5364DD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61D1-0F6E-4A13-B512-A975949AB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7C30-EF4F-4992-AB38-2759C5FE2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6B32-A05D-4227-B5AF-4E77AA0B1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1652-90D3-4F28-B7CD-443944271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80FA-EAA1-41E0-A0CF-AFBC7DC1E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2FA5-69FF-4C39-A2D6-60979EBDC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48D2-223A-4229-8EA6-DF3EF6261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9BF4-7E3A-439E-A5EC-D75BACC12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E3AC-9832-45B2-B588-2F2901624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0B69A3-7D30-4A2E-97BD-AC04D8F8425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