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76360"/>
        <c:axId val="92565994"/>
      </c:barChart>
      <c:catAx>
        <c:axId val="20576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65994"/>
        <c:crosses val="autoZero"/>
        <c:auto val="1"/>
        <c:lblAlgn val="ctr"/>
        <c:lblOffset val="100"/>
        <c:noMultiLvlLbl val="0"/>
      </c:catAx>
      <c:valAx>
        <c:axId val="92565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76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DF61-3A04-46C4-BAD2-AEBC34B0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CD3-84AB-4011-AC5C-375F896F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3BCB-A5D3-4E04-80DB-1D0C73BD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187-B6DF-473B-BE16-845E8310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DCBA-4EEB-44CC-B447-6D14E2F7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34D-BDEA-4996-A084-46F8D5A4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03C-ABB7-43C9-9FB6-C20AC716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BA9-2571-4813-99DD-112D775C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F08-D83F-4BA2-8FC8-62FABB98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17A-333D-4EF4-9B91-E4CFD191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7AC-2130-4E3E-8F0C-9A9B6F47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845D-B979-494E-85E8-07B2AB4B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978EA-538F-48C5-9854-A02CE07FA9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