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55201"/>
        <c:axId val="54815792"/>
      </c:barChart>
      <c:catAx>
        <c:axId val="39255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15792"/>
        <c:crosses val="autoZero"/>
        <c:auto val="1"/>
        <c:lblAlgn val="ctr"/>
        <c:lblOffset val="100"/>
        <c:noMultiLvlLbl val="0"/>
      </c:catAx>
      <c:valAx>
        <c:axId val="54815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55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FD0-19C9-4ECD-BAB3-A7B48FF0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31E-A2AE-45C1-A919-87EF4140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B40-08C4-4B40-A37E-09FA8702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CBE-6FC3-460D-AF06-483C0935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39F-D87A-48C5-B946-449B49A1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1E6-088D-4FB3-A925-E7A93404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B6F-CB6F-43E4-8C7F-58555E4E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DB4-7F03-4A0F-96D0-FE8906D4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F81-60DF-4A98-A43B-68D62195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45D-F4F2-491A-B54E-DEC9CBF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441-DECD-4865-8596-64C1D35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FCB-757C-4816-9089-D082646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11565-C4CC-4F5E-93D9-03C0C5C721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