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84537"/>
        <c:axId val="77758215"/>
      </c:barChart>
      <c:catAx>
        <c:axId val="77584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58215"/>
        <c:crosses val="autoZero"/>
        <c:auto val="1"/>
        <c:lblAlgn val="ctr"/>
        <c:lblOffset val="100"/>
        <c:noMultiLvlLbl val="0"/>
      </c:catAx>
      <c:valAx>
        <c:axId val="77758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84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ED5-0D73-4BDF-A1CA-B9BCA855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9C0-6B8F-4E6F-8116-39BC7DD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4C6-C97E-4ED8-8ED4-C0BA38DD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D9B-371C-4C69-9CDB-18CA94FC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E2E-C036-4D3C-B44A-DBB45E7F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0E6-930C-43BC-B5A8-92BBA10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90B-0040-4903-8E39-A508D9C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205-BC36-4D02-B546-D253CFE9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70A-32EF-4BC0-95D2-81B250A0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AF6-8BC2-4109-BEF4-FAF98EA6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F23-1730-4B9E-A434-6DC85E51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54F-62FC-4B52-A561-FC733C0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E6D60-DE4D-4436-8B83-ACAD583B1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