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38582"/>
        <c:axId val="56155126"/>
      </c:barChart>
      <c:catAx>
        <c:axId val="992385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55126"/>
        <c:crosses val="autoZero"/>
        <c:auto val="1"/>
        <c:lblAlgn val="ctr"/>
        <c:lblOffset val="100"/>
        <c:noMultiLvlLbl val="0"/>
      </c:catAx>
      <c:valAx>
        <c:axId val="56155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385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D99-2B8D-463D-8531-A8693FEC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35E-2E3F-4F6C-90B1-45CE2EA5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8A2-DBF7-4856-9CA0-32899E9B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CDA1-5BBB-4D0D-9261-009B364B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3DF7-DF2B-4D71-BAA9-03D00685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FD87-FB80-46F0-B29F-EE84007A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909-D182-430F-80A2-FDA00939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B11-EF4A-4E14-8D33-0BCF6650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875A-CAB3-474A-BC7D-D55180EE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922-FB18-45E7-A1C4-AC2EA205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7D5-C3D6-4C0F-B0E9-EFCFCC1F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A2F0-CEFB-40FC-A8F8-4E03C71A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86E43-F817-4C5D-A1B7-3E21052B7F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