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8862"/>
        <c:axId val="69103354"/>
      </c:barChart>
      <c:catAx>
        <c:axId val="49168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3354"/>
        <c:crosses val="autoZero"/>
        <c:auto val="1"/>
        <c:lblAlgn val="ctr"/>
        <c:lblOffset val="100"/>
        <c:noMultiLvlLbl val="0"/>
      </c:catAx>
      <c:valAx>
        <c:axId val="69103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8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DBC-5245-440F-A157-D90BD877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8EF-504F-4D95-BC3C-54E459B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CA2-7D10-4AA1-B947-3083E00B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7A5-2E22-4958-B78E-68F477CD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2E9-CB07-41D0-986D-B090C02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1A7-511A-452F-AD97-B3DAA6D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C5F-9C82-41D4-82D6-8642B185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2B4-D92A-40D9-966F-4BF92D8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7B9-1B01-4AC5-A322-5023F5C5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7C2-82FA-485C-B9D6-8AC687C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C40-B2E7-4B8B-BAE2-7D97B01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4AB-C378-4BCA-B728-41D5F17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9F9E7-8912-4E52-9FB2-04D342DB5A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