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21813"/>
        <c:axId val="27496009"/>
      </c:barChart>
      <c:catAx>
        <c:axId val="99121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6009"/>
        <c:crosses val="autoZero"/>
        <c:auto val="1"/>
        <c:lblAlgn val="ctr"/>
        <c:lblOffset val="100"/>
        <c:noMultiLvlLbl val="0"/>
      </c:catAx>
      <c:valAx>
        <c:axId val="27496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1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FDC-2BDC-45A4-B35D-3AAE4907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B0A-5B3E-4EB6-8714-70D74F7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C9D-38B8-437B-927B-328E3F4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E26-12C5-4D6A-A9EA-B8D41D45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444-FFFA-4DE4-8766-214098D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9EA-C333-4624-B13C-84B712D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AFB-91A8-4975-BE2C-0EFB7277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528-1A25-4769-AF76-9B95021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C4B-6FF9-46F3-B10E-C74B1BAA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C50-AE02-4CD4-8D34-A7311F6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761-0A95-46A4-8461-9706221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62C-21C1-4265-8E6F-BF8BE45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4643-5D7C-4BC1-BF86-3AB9DA0217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