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788114"/>
        <c:axId val="54683271"/>
      </c:barChart>
      <c:catAx>
        <c:axId val="157881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83271"/>
        <c:crosses val="autoZero"/>
        <c:auto val="1"/>
        <c:lblAlgn val="ctr"/>
        <c:lblOffset val="100"/>
        <c:noMultiLvlLbl val="0"/>
      </c:catAx>
      <c:valAx>
        <c:axId val="54683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881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C525-A28C-4CF4-8A07-0985837B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C14-F962-419F-975B-9037BFAE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0F02-0AC7-4C42-B48D-F6EFBDF8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D1A1-177A-4B47-9C71-912340DA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3C34-B03B-4A4A-97C6-6D7961ED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6377-D751-4848-BDE1-4427DED7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C08F-E71F-4A65-8DA8-D40A3B18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B98-F058-400A-9092-E50BBCE3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36E2-6F67-4AC7-9F95-7423391D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0696-91F3-4DA4-A4C4-46D2307B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791D-9E3D-4E36-A0E9-4D98447F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FB6-5D87-4D6C-9BB8-555E1882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9F67C-1404-4DAC-8798-F58F4A614D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