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39975"/>
        <c:axId val="97736060"/>
      </c:barChart>
      <c:catAx>
        <c:axId val="70939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36060"/>
        <c:crosses val="autoZero"/>
        <c:auto val="1"/>
        <c:lblAlgn val="ctr"/>
        <c:lblOffset val="100"/>
        <c:noMultiLvlLbl val="0"/>
      </c:catAx>
      <c:valAx>
        <c:axId val="977360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39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708-1B8B-4A4D-8323-E7C2BD07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3BC6-0FB6-4551-9FD2-30E65E18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AA0-1A24-45DD-9DBE-4BDAA043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0F9-9548-4332-A3D3-12D1F738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5F4-1D7F-4EA9-9764-B72645BA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CCE-21D5-4520-81E3-BBF397CF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58F-9CD8-4FB1-9BA5-B27F2A0F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0EC-F276-40ED-874A-B4A4D9DA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08A-1DB0-4F59-AC2A-0FAA0861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0756-CE54-44C9-9F39-DB643EBD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26EC-450C-40F9-8AF7-8F84B7F7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451C-3731-4002-ABC5-144C6948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CEA88-FDE2-47C5-A300-8621AA2CF9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