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136239"/>
        <c:axId val="27517016"/>
      </c:barChart>
      <c:catAx>
        <c:axId val="651362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517016"/>
        <c:crosses val="autoZero"/>
        <c:auto val="1"/>
        <c:lblAlgn val="ctr"/>
        <c:lblOffset val="100"/>
        <c:noMultiLvlLbl val="0"/>
      </c:catAx>
      <c:valAx>
        <c:axId val="2751701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1362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66A5-6ABD-412B-B6B8-31380B792D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26B9-4D66-45E1-A114-25DA70472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80A-D1E0-4C0C-AA77-73D398A69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4FE4-E517-483E-BE68-ACCBD9127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5E3BC-5C40-43F3-954D-48F4AA48E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B21B9-A63E-47B4-A3B6-0F1312521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FC4D-8B34-4C1D-93C3-DA5925BD7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1BEC-3C6E-49EC-BB76-650E4E215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0DD83-DF22-43D6-91E1-79B408428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6FFDE-2164-490C-8C1E-7AAF0823E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B1268-0672-4EC3-B890-5C7016D52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BA58-9C53-475A-9CF8-47525F5A1A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A27784-D74D-4C87-A2A9-E9FD5F3F296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