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89929"/>
        <c:axId val="54375097"/>
      </c:barChart>
      <c:catAx>
        <c:axId val="318899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75097"/>
        <c:crosses val="autoZero"/>
        <c:auto val="1"/>
        <c:lblAlgn val="ctr"/>
        <c:lblOffset val="100"/>
        <c:noMultiLvlLbl val="0"/>
      </c:catAx>
      <c:valAx>
        <c:axId val="543750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899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A7F0-5C8F-4394-AC33-43DA2067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0A9-564E-413C-A0EF-C8C37635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B54-A811-4853-B764-03916562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D84F-E194-4396-AA7F-33958F70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280-4EC1-4A88-B1BF-B61763E5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0ED-892B-4292-8A6C-1D8C6609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D68A-89A9-40B5-ABC5-B64E48EB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EF4D-A639-4208-868A-6C0BEEB6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CBB-9A86-471C-9D6D-9356106F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4A3-B2E3-4FB0-B20F-24C6F0DE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E00-5F7E-4699-9099-DD93BED5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6243-5A2B-44F0-9C63-46211F6B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2A75E-8B40-4F94-A437-719EBCE177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