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0376"/>
        <c:axId val="55483319"/>
      </c:barChart>
      <c:catAx>
        <c:axId val="7110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83319"/>
        <c:crosses val="autoZero"/>
        <c:auto val="1"/>
        <c:lblAlgn val="ctr"/>
        <c:lblOffset val="100"/>
        <c:noMultiLvlLbl val="0"/>
      </c:catAx>
      <c:valAx>
        <c:axId val="554833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0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716-5EB0-4657-BF63-0CE9D9CC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796-D79C-4BCC-AD45-DFEB8941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68E8-07CD-4DD5-9FA7-DF3D74C2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B83-F1CA-492B-93B7-E02650EA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7896-67ED-4E16-B837-B747F5EE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CA2-55E5-4F3C-92BE-4DE6D12E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A71-81A9-4C4D-8CA3-C26949B5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44E-BA6D-4956-A182-A2028980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043C-6F19-4627-AEC9-69D2C12C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DCF-6282-49A0-821A-E1BF0A0F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FDD-09CB-41B8-9CA2-138CF6D7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80E-464C-4F98-BFFC-FC362972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2C85B-4B46-4321-AD26-787199D540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