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43146"/>
        <c:axId val="33280581"/>
      </c:barChart>
      <c:catAx>
        <c:axId val="37143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80581"/>
        <c:crosses val="autoZero"/>
        <c:auto val="1"/>
        <c:lblAlgn val="ctr"/>
        <c:lblOffset val="100"/>
        <c:noMultiLvlLbl val="0"/>
      </c:catAx>
      <c:valAx>
        <c:axId val="33280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3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6B6-6862-4EE7-A872-87A55084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28F-828D-4869-95D4-2C879FB8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33D-5678-4907-8D43-24F8D3C0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AA0-563A-475B-8704-B55BAA55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4D9-4699-405E-A624-F72AA0C0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0EF-24B3-4B22-B5EC-0249E5B9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7D1-EFF0-43A7-A680-3554C22A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7AE-805B-42BC-95CA-274CE00E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23E-8D42-4BD9-89A2-263C19E2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794-8CBE-4C5A-A547-9CDF68E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502-A386-43C3-B132-E78D503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63E-CACA-4852-B8E5-E38C53DA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EDE1D-5445-4316-B8B4-2F428787A2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