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46347"/>
        <c:axId val="87820071"/>
      </c:barChart>
      <c:catAx>
        <c:axId val="44746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20071"/>
        <c:crosses val="autoZero"/>
        <c:auto val="1"/>
        <c:lblAlgn val="ctr"/>
        <c:lblOffset val="100"/>
        <c:noMultiLvlLbl val="0"/>
      </c:catAx>
      <c:valAx>
        <c:axId val="87820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46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8E7-DF7F-4592-A52B-F4CD1E81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973-DD60-430F-87FE-D97EC29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7E2-6EAA-46EF-BF33-6E8631BD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1A7-2151-4C3E-BD69-CAC523B7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F26-4466-4186-ADD0-F696AE23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272-6FE8-4412-B9B8-CFD4F4E1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581-3319-4722-8EA3-41A7EB2F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681-D9A3-47C6-8241-1EFAA9A3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C24-7EBE-45DB-92A4-7CB3DA09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ADF-6826-4356-867C-689372D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A6C-FB87-4453-B8ED-695A0C0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2F2-3A9F-482A-BD14-AFA2080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F88FD-CFE1-477F-B40E-F134CF3C29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