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47119"/>
        <c:axId val="70894975"/>
      </c:barChart>
      <c:catAx>
        <c:axId val="66947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94975"/>
        <c:crosses val="autoZero"/>
        <c:auto val="1"/>
        <c:lblAlgn val="ctr"/>
        <c:lblOffset val="100"/>
        <c:noMultiLvlLbl val="0"/>
      </c:catAx>
      <c:valAx>
        <c:axId val="70894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47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30E-430D-46B3-876C-D6B7D569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6E5-2EDB-4ADC-8FFE-A12D0C67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886-0DC6-4984-9D9F-255AF108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AFE-F493-49F2-9D60-7CA5BA66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A43-AA2A-4F07-AF97-0593909F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B1C-A689-439F-97DD-FABCA63A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529-99E2-4C8C-BE60-19F737B2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D5A-E3EE-4C0A-8BF5-C58CECCF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4A7-AA9A-49ED-9704-BC0E53B1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15B-83A1-4A88-9028-C62CF3F9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DA4-F06C-46E2-997C-FE9A30B3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5EA-4A77-4A7D-9B9A-9800455E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D1B3D-669E-4392-BC3B-FEEF9E1D0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