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15257"/>
        <c:axId val="92982641"/>
      </c:barChart>
      <c:catAx>
        <c:axId val="58915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82641"/>
        <c:crosses val="autoZero"/>
        <c:auto val="1"/>
        <c:lblAlgn val="ctr"/>
        <c:lblOffset val="100"/>
        <c:noMultiLvlLbl val="0"/>
      </c:catAx>
      <c:valAx>
        <c:axId val="929826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15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35C-EFF1-43B6-BF79-72804619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BEE-A0A1-4BBF-AE1C-BBADCCCC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D60-E1E9-42AF-A1F6-2295660D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8CD5-CDC0-4DC4-9F1C-9CE09C2D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8499-D14E-416F-981C-5BD5B91D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992-E01E-4949-9EEE-F8B5A176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287-23B6-4362-BEFB-395A3005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76D-A317-46E8-A2D2-FD13D961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9D6-7B54-4911-8F74-94FFCB6C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E1D9-C43F-4625-8C0D-CCE2A81F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461-E341-45E4-B6B8-58D3CB0F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2C5A-01EB-46E1-8EA6-A7C34132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580B8-E262-447D-A798-53409E046B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