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01435"/>
        <c:axId val="82739200"/>
      </c:barChart>
      <c:catAx>
        <c:axId val="84301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39200"/>
        <c:crosses val="autoZero"/>
        <c:auto val="1"/>
        <c:lblAlgn val="ctr"/>
        <c:lblOffset val="100"/>
        <c:noMultiLvlLbl val="0"/>
      </c:catAx>
      <c:valAx>
        <c:axId val="82739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01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F41-FAAE-4868-8B13-67D21393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78D-B787-4B17-B1FA-1D7A5618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39D-38F1-4C0A-BE73-19F30332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2CB-BF24-41FA-8878-E452265F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DDB-44BE-4DEF-87E2-E55DACB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9CD-5BBB-4957-82EE-F97AF1C6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16F-4A72-488E-A097-627CF9AF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433-AD0C-4451-91B0-A9DA9E66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5AE-BEC3-4E60-9F7D-D50A789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58B-9F4E-45A1-9FAE-7B13BA3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D0B-5798-4AF8-9CCA-69B2EF5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3A8-3A48-4FEF-835E-4A0D9163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C4538-77C4-4A80-8153-8ABD26B1D2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