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20931"/>
        <c:axId val="96031667"/>
      </c:barChart>
      <c:catAx>
        <c:axId val="43320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31667"/>
        <c:crosses val="autoZero"/>
        <c:auto val="1"/>
        <c:lblAlgn val="ctr"/>
        <c:lblOffset val="100"/>
        <c:noMultiLvlLbl val="0"/>
      </c:catAx>
      <c:valAx>
        <c:axId val="96031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20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95A-DD2F-4ED5-985F-1534B552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63B-5245-487B-AB82-EF120940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5D5-4F89-4A72-9A16-C4D24188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39C-C8BD-4F88-9DD0-035545AE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13E-7063-4D42-A03F-AE8D5439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F7E-FCD8-4234-9C04-030AA058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5B4-A8D4-4AB4-A76E-92F46683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04F-C173-439F-96D0-3A210624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79E-9EBC-44AF-BACB-F958ECC6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E91-C233-4F9A-B29A-812A5ED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1DD-3F76-47CF-9EDA-8C36D208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802-A9D5-4310-B525-87246721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27715-5F1C-4ABB-95DD-5B2B8AAA0A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