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258057"/>
        <c:axId val="23446420"/>
      </c:barChart>
      <c:catAx>
        <c:axId val="712580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446420"/>
        <c:crosses val="autoZero"/>
        <c:auto val="1"/>
        <c:lblAlgn val="ctr"/>
        <c:lblOffset val="100"/>
        <c:noMultiLvlLbl val="0"/>
      </c:catAx>
      <c:valAx>
        <c:axId val="234464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2580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6ADF-D2FB-4155-852A-18659CA28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DA38-EB7A-48CC-945B-BEE2A996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EE6F-F981-4CC0-8A5B-ED573B4DC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EE2F-46A3-484E-A0B0-23D138B9E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77B0-0600-4B29-BB96-98E0400D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2DD1-1D0F-4925-84C2-BDB3866E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DF68-74CA-4CC0-8D74-5CF281F0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54B9-1A9F-474F-9DF5-6DECED63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0A2A-B6B6-4DC7-9122-D82DBFAE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E373-CA6A-4DF6-A7B1-79C028A9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32C9-CB1D-4F63-BD04-DC30237E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2E40-34B4-40B8-AEC3-3263BDF8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DFFBBA-6522-4A43-893E-8251A4900A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