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039730"/>
        <c:axId val="26461466"/>
      </c:barChart>
      <c:catAx>
        <c:axId val="44039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61466"/>
        <c:crosses val="autoZero"/>
        <c:auto val="1"/>
        <c:lblAlgn val="ctr"/>
        <c:lblOffset val="100"/>
        <c:noMultiLvlLbl val="0"/>
      </c:catAx>
      <c:valAx>
        <c:axId val="26461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39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8C59-0F44-4CD2-9D0C-307EDE10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D8E-EB49-4477-9254-DF5337BC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E4F-2958-4125-BCD7-0DC3CB13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B5D4-D878-45B6-903B-EFD42F4E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3AE-2279-40C8-B2A6-5141B5FE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A0F9-2E7D-4A5D-A75F-00D84694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BF2-0F0A-4C48-8E33-29659971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5D0-A52F-42DC-B66F-125CEBB9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D8DE-4966-4DA1-A435-6EFCE02D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702-4098-49F3-98D1-5BFCB39E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04C6-B005-4E02-B8F9-0AFE9B7D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C6A-8FC2-4EDA-8CCD-C3F03EAD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3FC68-893C-426B-A2FB-35AA9197B9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