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90949"/>
        <c:axId val="92144814"/>
      </c:barChart>
      <c:catAx>
        <c:axId val="68290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44814"/>
        <c:crosses val="autoZero"/>
        <c:auto val="1"/>
        <c:lblAlgn val="ctr"/>
        <c:lblOffset val="100"/>
        <c:noMultiLvlLbl val="0"/>
      </c:catAx>
      <c:valAx>
        <c:axId val="92144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90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09C-F8A6-4956-B03A-8F073BAB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099-AC6E-4079-A447-A7814743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A54-E57D-4446-8D8B-7BAD3841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04A-15FC-4774-AC12-2796B086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E6E-267F-4852-924B-93BECE5E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E88-7A1D-44C4-A466-E59DFF44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6A2-D85E-4517-A9C5-8554151E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7F4-4956-4E44-A74E-53028C99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0FB-0FBE-4C92-B628-E8C4636E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974-6D5E-4A6A-8AAD-28204EA3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FCE-E4D2-44A0-B927-8693C615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196-19CC-4D77-A0B8-3EDD0FCD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F8A01-D1BD-4E96-900B-9D16B2A03A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