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56897"/>
        <c:axId val="35572268"/>
      </c:barChart>
      <c:catAx>
        <c:axId val="24456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72268"/>
        <c:crosses val="autoZero"/>
        <c:auto val="1"/>
        <c:lblAlgn val="ctr"/>
        <c:lblOffset val="100"/>
        <c:noMultiLvlLbl val="0"/>
      </c:catAx>
      <c:valAx>
        <c:axId val="35572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56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B1C-E8E2-436D-83A0-90762CC7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9AC-3582-4610-93A2-5F4BC1C4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2C2-8E70-491D-91DE-92EBA13F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B87-B863-403C-8C9C-58BF2FC7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BD2-4304-4580-A307-DB81C167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E3F-1D11-4C16-8DA7-A8C7FAC7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518-8F47-49FB-B8ED-A3F922E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6FC-6C06-4AF0-8F80-18581A38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C95-CBB1-411F-B369-B14928AA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418-3516-4FC5-BE2F-5962C1E8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9A1-1F25-4141-A8C9-3EC0859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64F-9680-46B0-8991-379B4B2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3ECE5-2559-47B6-A495-4EFC0C191B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