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60165"/>
        <c:axId val="56324246"/>
      </c:barChart>
      <c:catAx>
        <c:axId val="89360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24246"/>
        <c:crosses val="autoZero"/>
        <c:auto val="1"/>
        <c:lblAlgn val="ctr"/>
        <c:lblOffset val="100"/>
        <c:noMultiLvlLbl val="0"/>
      </c:catAx>
      <c:valAx>
        <c:axId val="56324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60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8F2-7482-4987-9964-AD3C3EEA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928-0D41-43FD-9EFE-F7B7CABA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2EF-6D79-46A6-8BE6-00E1793A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F7E-4375-4C89-BA3E-CF23E904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5C51-73C0-4F05-8AB5-40211BA2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CA5-64F6-44F1-8FB8-5FBF579F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C9B-280A-40D2-830E-56873266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999-8E30-4AF8-BE0E-06833985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8E00-D92A-4D42-93E2-293F4825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A9D-5B48-4151-A2B4-13DECB21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D93-B7BE-4604-B0D7-CE7D4741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4F4-7E98-4A5D-885E-56C353DD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D5AAC-1116-4A16-B2EA-29F79ACD63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