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80888"/>
        <c:axId val="79521678"/>
      </c:barChart>
      <c:catAx>
        <c:axId val="24980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21678"/>
        <c:crosses val="autoZero"/>
        <c:auto val="1"/>
        <c:lblAlgn val="ctr"/>
        <c:lblOffset val="100"/>
        <c:noMultiLvlLbl val="0"/>
      </c:catAx>
      <c:valAx>
        <c:axId val="79521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80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9F5-68EF-4209-BEAA-FA31559A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5F2-3372-4124-8B8D-44B851B5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37C-468D-4FB9-BDCC-88150C85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54A-887D-40EC-B28C-B5EDD6F8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336-80B0-4FF7-823E-36EE6279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9E8-F876-46FB-997E-51BBC468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7A4-FF58-4042-A603-B776B9DC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58E-0C81-4373-A879-5EB7654A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1AC-3581-447B-B971-AB37F3FE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95B-CE7E-43DB-8687-FF72CFC1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51D-5F25-4D3B-A341-A702AE02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4CF-6D27-4CE7-BBD8-1FE9C593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26966-CD6B-4B57-B58E-5E2E06646C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