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67074"/>
        <c:axId val="92281209"/>
      </c:barChart>
      <c:catAx>
        <c:axId val="3316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81209"/>
        <c:crosses val="autoZero"/>
        <c:auto val="1"/>
        <c:lblAlgn val="ctr"/>
        <c:lblOffset val="100"/>
        <c:noMultiLvlLbl val="0"/>
      </c:catAx>
      <c:valAx>
        <c:axId val="92281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6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FD3-0A87-4FD6-8998-CCEB82FC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C1A-16E2-4861-890F-0C521F7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C02-F815-4B01-9951-CC43E4C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833-EBCF-4ABB-A270-17C0ED76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641-B3F1-45E1-8412-29692AA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904-7005-4359-8883-215CFBF4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C42-F4A9-4587-AB53-BEB615A8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869-B102-450A-9ED2-6FCEEE2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D7C-BFFC-4C7B-9E83-579BF0DD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70C-2DEF-4225-A096-3F9B185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0C0-5B04-426D-AC51-8E854CB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AD9-ED07-497B-AE3C-DCD2E9B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4FD1C-3F13-4B10-A850-088397AA8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