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93676"/>
        <c:axId val="5912384"/>
      </c:barChart>
      <c:catAx>
        <c:axId val="99193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2384"/>
        <c:crosses val="autoZero"/>
        <c:auto val="1"/>
        <c:lblAlgn val="ctr"/>
        <c:lblOffset val="100"/>
        <c:noMultiLvlLbl val="0"/>
      </c:catAx>
      <c:valAx>
        <c:axId val="5912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93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01E-DA82-4A56-92F8-3C9AECD6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875-A5FC-445E-A3DA-FBCB6FA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030-117C-4EA7-8AFD-1C06178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B4E-F8C9-42AC-8B87-7DB92350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8E9-5575-4166-BAE2-DE49D55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A99-E38F-4BFE-92C0-123B2DB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DCE-4FCD-4F36-B59D-FBA0C7B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727-D823-4015-B307-FBCB5BCA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310-E8A1-4C32-8E56-CF2105FF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5E5-1DF7-426A-AD5F-5476F04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36D-CD86-4DAB-8120-8246727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3ED-72E3-40E5-9A0C-DC4B2EB2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BC53D-1283-476D-B2C7-48DEA78A4B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