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34042"/>
        <c:axId val="37279255"/>
      </c:barChart>
      <c:catAx>
        <c:axId val="62634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9255"/>
        <c:crosses val="autoZero"/>
        <c:auto val="1"/>
        <c:lblAlgn val="ctr"/>
        <c:lblOffset val="100"/>
        <c:noMultiLvlLbl val="0"/>
      </c:catAx>
      <c:valAx>
        <c:axId val="37279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4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F93-6EF4-4B3B-921A-5D89A93E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F04-2EAC-48BA-B581-03DC3BD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157-8340-4B09-96DF-77EDA24E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678-941D-420E-9CD0-12E94324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818-3F11-4E8E-A82C-FA07C0EF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76A-4D9D-4C6D-8E95-4A9FD3C2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60B-E105-47BD-8674-4ED1E473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4F7-29D7-4952-8FF5-46E956F3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9E5-D8B4-43BF-8FEF-66DDF20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835-5BD7-4E3E-9672-9004F48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E28-9117-46C8-A946-C47C263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0EC-77F3-4164-9DA1-2B6664D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2E1E8-4B41-4A8E-8A5A-5A9845CB1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