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47561"/>
        <c:axId val="55617299"/>
      </c:barChart>
      <c:catAx>
        <c:axId val="70147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17299"/>
        <c:crosses val="autoZero"/>
        <c:auto val="1"/>
        <c:lblAlgn val="ctr"/>
        <c:lblOffset val="100"/>
        <c:noMultiLvlLbl val="0"/>
      </c:catAx>
      <c:valAx>
        <c:axId val="55617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47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EB3-B46F-4D85-B530-36C837FC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8E9-61DB-4055-AD43-23D4A18A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C88-78C3-4A7C-BC1B-2F59C309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699-D122-412A-B5C8-7CA00048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912-74A3-406F-B52F-20377A3A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26E-1017-432D-987B-6FE53C8B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9F6-3181-4649-8280-8B19F6E6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D03-FC4E-4AA1-96FB-C247FE41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4AC-64E9-458D-83DC-77774347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C42-3702-4F05-8613-16AB4388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748-C48F-48EC-A786-B67CEB6D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094-BFD5-4292-8C1C-643B2B85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97313-7B22-4C69-9638-CA7C0EE58A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